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348-2296-4716-8C5D-436F5D02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348-5398-4CEC-A37C-87A39EC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E0B-6139-40BD-8ED0-246A5BB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B9F-CDF9-4EC9-919F-AE1B1824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4084-BAF0-4203-9CB3-11917BC6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24A-06C5-4F7C-903C-B23A4FF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0569-045C-45F8-B302-2D8ED939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F6C5-BC0D-4CB8-A236-477D30E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E779-C26C-4B6D-9B5F-3BAA6C0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AB2-EA91-4035-8B4A-5C9C93A8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B96C-C052-495F-A01F-7D9E46ED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5E4-3782-4E19-AA65-85DCA04A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5B80-28AB-44CB-BD69-2876C24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175-E713-4CA5-89A0-5B954820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0A5C-E876-466F-A7DC-2D42BDC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2679-2E4E-43FA-87EB-27783AF3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5F31-A914-4F03-B73A-BA8078A2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7E0-049A-4AE2-BA65-820D726F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663-500D-4658-8CEE-3B54F58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4B6-EAAB-4DFC-BF87-1733761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8B3-D209-469B-A716-6C32A6E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843-9DC8-4015-9746-1C037AE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EA2-E8B8-4F9D-9E14-90571CF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9D8-3ADD-408B-8FEF-AD63792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DAD-F23B-4001-8FF3-1116B19F1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09FD-91FE-4502-9CFB-ED541A833C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Univers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ianna Alme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-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,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ne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877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ght Y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189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la-Midsized Star- Red Giant- White Dwarf- Black Dwa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61052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48481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 Su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5895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3971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uses of night and d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191120" cy="384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47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uses of the Seas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3396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96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5160" y="1447920"/>
            <a:ext cx="47228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teroids and Com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572000" cy="359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42195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07:12Z</dcterms:created>
  <dc:creator>jalmeida</dc:creator>
  <dc:description/>
  <dc:language>en-US</dc:language>
  <cp:lastModifiedBy>jalmeida</cp:lastModifiedBy>
  <dcterms:modified xsi:type="dcterms:W3CDTF">2011-04-01T18:18:18Z</dcterms:modified>
  <cp:revision>2</cp:revision>
  <dc:subject/>
  <dc:title>Slide 1</dc:title>
</cp:coreProperties>
</file>